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D96B-CE80-4107-BEB4-AFCB656AD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12AA-75BC-4CC4-9796-5181CB38C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3C09-A2AE-435F-B88C-E2581358D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7FD5-A799-4EAD-BCD3-A6949FF4E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D2AE-43C8-44C1-A847-25A9FC787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CDF2-D839-4CB7-82BF-24FF2EC62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EAAD-42AC-4E5A-BC10-992932D09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5BBC-14F0-408D-8349-1E77ADDE8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E7CD-AE74-4DF3-BFD0-7EEAC2536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EEDF-550D-4A5D-A6F2-D37147DA3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1D79-82A2-450B-BDA8-5775F83C7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D19B-6806-41B3-996F-4EC8F0FBC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E65AA-197E-47FF-A0C3-82A80E4408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31T15:47:45Z</dcterms:created>
  <dc:creator>ricardo.scantamburlo</dc:creator>
  <dc:description/>
  <dc:language>en-US</dc:language>
  <cp:lastModifiedBy>ricardo.scantamburlo</cp:lastModifiedBy>
  <dcterms:modified xsi:type="dcterms:W3CDTF">2005-01-31T15:49:37Z</dcterms:modified>
  <cp:revision>3</cp:revision>
  <dc:subject/>
  <dc:title>Slide 1</dc:title>
</cp:coreProperties>
</file>